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E73-B62D-44A1-9C3B-92E68E2B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AE1A-241B-4890-9DEA-82328B6F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CA0-F889-4FB0-837F-AEB0F4DD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EA25-79A1-4D95-96A4-5C21937B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882-90B2-42ED-8E87-1C37D835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29D4-6D7F-4853-976F-3705EAFF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EEE3-F394-488E-AFCE-32572F99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EAC7-487E-4612-92B3-92B9FA5D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6991-B415-4CD5-97D6-FB4249B0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940-E8DD-472D-9A1B-73C943DE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C438-0753-4989-A749-9940BFA5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0B24-F081-420A-AB4D-874E407F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D598-FA2A-474F-9BD8-6B0FCADCBE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0760" y="1523880"/>
            <a:ext cx="665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tiologic F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f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erson-Time Dat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2133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822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2133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82296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772400" cy="4282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62120" y="5029200"/>
            <a:ext cx="77724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543800" cy="2771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543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638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010280" y="5715000"/>
            <a:ext cx="15242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010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239240" cy="294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723924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066680" y="4800600"/>
            <a:ext cx="7239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350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4114800"/>
            <a:ext cx="7543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2438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54380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7543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754380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229600" cy="213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8229600" cy="1447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858000" y="4114800"/>
            <a:ext cx="1852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8305920" cy="2057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229600" cy="2133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8229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31:36Z</dcterms:modified>
  <cp:revision>210</cp:revision>
  <dc:subject/>
  <dc:title>Slide 1</dc:title>
</cp:coreProperties>
</file>